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22450"/>
        <c:axId val="44303883"/>
      </c:barChart>
      <c:catAx>
        <c:axId val="35622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03883"/>
        <c:crosses val="autoZero"/>
        <c:auto val="1"/>
        <c:lblAlgn val="ctr"/>
        <c:lblOffset val="100"/>
        <c:noMultiLvlLbl val="0"/>
      </c:catAx>
      <c:valAx>
        <c:axId val="44303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2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89C-A454-4658-95FC-64CBA012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3F5-F74A-415C-AF56-CFB25DD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50C-F67F-4B7C-BE14-9C351E49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766-165D-4886-9D8B-6950F25A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BB1-95A7-4BF7-A8EA-CF0573C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BCD-DB33-4E4A-AFC9-1C872E73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8F1-9AB6-4F0F-AF2E-374AD07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A13-B84E-47DE-86B0-A42AF94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851-15C8-4D91-98EF-0F63A75F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664-3EC8-4660-AC9E-96A6D023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509-2B45-4F50-A48A-6775001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C8D-86CD-4A67-AEEB-69D5EED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96B71-D66E-4DBC-8B99-2CC3854C37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