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13426"/>
        <c:axId val="89392758"/>
      </c:barChart>
      <c:catAx>
        <c:axId val="43213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92758"/>
        <c:crosses val="autoZero"/>
        <c:auto val="1"/>
        <c:lblAlgn val="ctr"/>
        <c:lblOffset val="100"/>
        <c:noMultiLvlLbl val="0"/>
      </c:catAx>
      <c:valAx>
        <c:axId val="89392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13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B7E8-3D3E-4086-8933-ACD59A88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A820-67AF-4752-9013-1AA146F5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2D9-6398-4430-96B0-77E7DAA8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F6C-B5B7-4F20-B118-C154A294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F48-BF70-4CB0-B2EF-22A4C394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445-4AAF-4ADB-AFAD-723EC083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625-72B7-44E3-9663-994EFCE6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79FA-368D-475A-8339-0E2D4E36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442-3695-4572-96BF-86FA4C45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A55-111F-4770-9F5E-226FC00B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0D4-6E21-4C0B-A0B0-9743F2C1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2A0-71EF-402E-AA51-2500EF57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14058-4365-4BDF-A534-E67ED163F5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