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18448"/>
        <c:axId val="75897358"/>
      </c:barChart>
      <c:catAx>
        <c:axId val="8791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97358"/>
        <c:crosses val="autoZero"/>
        <c:auto val="1"/>
        <c:lblAlgn val="ctr"/>
        <c:lblOffset val="100"/>
        <c:noMultiLvlLbl val="0"/>
      </c:catAx>
      <c:valAx>
        <c:axId val="75897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1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15C-3B3A-49AF-9983-DC87682D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0E1-197B-4768-99C4-5B7D37E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413-AEC8-40AE-9FF8-2A0B7E34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765-B58D-4135-BAF4-41D3454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1C0-89AB-45C4-9D46-BA76374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785-84D1-4909-B001-82B050C1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2A8-494F-4F71-9E20-875697DC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EED-E020-4C24-9830-101F7B8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BB0-0952-4A4A-A49A-77CD0E64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9D6-E6D9-4C79-898C-96DCF49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BD9-784C-4388-B3A0-015C383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967-F788-4062-8F4E-C9C2FB1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605B1-544D-4435-AC2B-8C115666D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