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482562"/>
        <c:axId val="69190712"/>
      </c:barChart>
      <c:catAx>
        <c:axId val="254825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190712"/>
        <c:crosses val="autoZero"/>
        <c:auto val="1"/>
        <c:lblAlgn val="ctr"/>
        <c:lblOffset val="100"/>
        <c:noMultiLvlLbl val="0"/>
      </c:catAx>
      <c:valAx>
        <c:axId val="691907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4825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3DE3-A2C6-4F87-A814-9A4429F12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FCDB-8F71-4494-822B-9B037AC20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DC50-D3CE-4C07-8691-BE0D4E75E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92E7-4CE1-49A6-95FB-C19B78A70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A728-862A-454B-992C-BBD22B658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3438-8311-47D6-9A7A-2C094B454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9919-DD86-49C6-A9F2-AE5F910CC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AE16-842E-4042-87D3-928E15D1A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A909-2E95-4D39-B51A-AA56B9F2C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11B8-0759-4BEF-9DCD-925FD94A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9422-30CB-423E-93E1-156FB7EA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C4C7-FDC1-4047-8A3A-960013E63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D9E440-3F27-4B4B-BFC0-F6BE9A7A629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