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54928"/>
        <c:axId val="42810360"/>
      </c:barChart>
      <c:catAx>
        <c:axId val="15492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810360"/>
        <c:crosses val="autoZero"/>
        <c:auto val="1"/>
        <c:lblAlgn val="ctr"/>
        <c:lblOffset val="100"/>
        <c:noMultiLvlLbl val="0"/>
      </c:catAx>
      <c:valAx>
        <c:axId val="4281036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492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A68B-9715-49B8-BCAA-2F4058183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7A28-3ADC-440E-B13E-D14A9B413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ED90-7589-427C-866D-786FFFAF9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62B4-CB93-4207-B381-B9308173F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2CEE-3CA9-4C6A-8D07-1EA1B2FF0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34FD-6568-4091-88D3-2ACDA6529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370B-E262-4D7D-B3C7-5669B6ED2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287C-D6D0-42CD-8E3E-3BE24F031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E5F6-629E-4017-96BA-34AB2E52D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FCAF-C268-4E0F-85D0-FD7958764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30BC-9AD5-4054-A328-533B0E06C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C271-38E0-4D47-B45F-05E806499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E3BA36-1895-4FAB-ABE2-49C3E7347FA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