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88584"/>
        <c:axId val="40083144"/>
      </c:barChart>
      <c:catAx>
        <c:axId val="62888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83144"/>
        <c:crosses val="autoZero"/>
        <c:auto val="1"/>
        <c:lblAlgn val="ctr"/>
        <c:lblOffset val="100"/>
        <c:noMultiLvlLbl val="0"/>
      </c:catAx>
      <c:valAx>
        <c:axId val="40083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88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D67-17B4-4177-95D6-5C2E7E57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68A-0B4A-4260-B477-4060D252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7B2-99FC-411B-A8F1-B94E824E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F4C-A607-48DF-9536-D8398B6A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F24-29BD-4147-82E1-CFC86E87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5C4-031E-48E6-9C4C-AB9DC07A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B10-DEA9-40BE-BFF8-D25B0D06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843-8F29-4A9B-95F2-C2B86BD2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312-BB75-4AEE-B44E-FEB9360C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47F-E815-4051-9D10-57DC6A8D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8C5-AF45-40BF-851E-FA7417E0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8BE-D9CD-4F65-BC3C-8EF91674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61713-07A3-467A-BFF1-DA826A0088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