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05633"/>
        <c:axId val="11563586"/>
      </c:barChart>
      <c:catAx>
        <c:axId val="21305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3586"/>
        <c:crosses val="autoZero"/>
        <c:auto val="1"/>
        <c:lblAlgn val="ctr"/>
        <c:lblOffset val="100"/>
        <c:noMultiLvlLbl val="0"/>
      </c:catAx>
      <c:valAx>
        <c:axId val="11563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05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5D5-A618-42F0-B9FF-A72E677C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50C-0DF2-4F3F-BE3C-EA9119A9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402-8EAC-418A-8BDC-103ADD68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E06-687E-4657-88C2-86BF25D2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6FA-6D27-4DB6-A9BF-647D24C8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3E4-0861-4708-BFD8-F85A0AFB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D29-5341-4D58-8B07-01F24967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53F-876D-43C6-BE59-A5F5C415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3DF-8646-48CB-AA8A-22DFAFBC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2F8-51C1-4B72-8CC5-C5477964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63F-B5E7-47E1-9FA7-00B163C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1B2-E36B-4E9D-A04F-E111B81D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D6FD5-61D4-40D9-BDE6-7A021E27DF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