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73279"/>
        <c:axId val="68494393"/>
      </c:barChart>
      <c:catAx>
        <c:axId val="67973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4393"/>
        <c:crosses val="autoZero"/>
        <c:auto val="1"/>
        <c:lblAlgn val="ctr"/>
        <c:lblOffset val="100"/>
        <c:noMultiLvlLbl val="0"/>
      </c:catAx>
      <c:valAx>
        <c:axId val="68494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73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208-EE06-402F-94B4-83281B5C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422-F9C0-420D-B35D-D2069F4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702-FB3D-4C79-8343-1C15ACB7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8FE-E6A0-4922-BDDA-FB5F2AB8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9A3-FB95-49EC-B2B9-E187AA4D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83B-6D74-41F8-A402-AFD06EF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D08-206C-49A8-8696-3AFC4D52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56C-8895-41D7-8CE9-06F23F8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C2A-FAC0-4E37-9C9D-B7A95765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F17-1929-4894-A6C9-0A0B29D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F6E-3D1B-44F6-BE1B-675AA01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748-7B6F-4E79-AD94-C0B0AA2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3395F-0749-41A4-B8ED-0F52437A73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