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022355"/>
        <c:axId val="65148952"/>
      </c:barChart>
      <c:catAx>
        <c:axId val="140223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48952"/>
        <c:crosses val="autoZero"/>
        <c:auto val="1"/>
        <c:lblAlgn val="ctr"/>
        <c:lblOffset val="100"/>
        <c:noMultiLvlLbl val="0"/>
      </c:catAx>
      <c:valAx>
        <c:axId val="651489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0223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4C57-A1D6-4705-9EF5-9259EA704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168D-930E-4EE3-A037-BF6BE5E8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5044-C9F5-4729-AD0F-D8104462B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837B-A696-4EF1-8F37-B72A51ADC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9859-F406-4211-B4D3-EE8D497B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3FCC-0E5E-448A-95B5-CB5B16F6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0C60-3E7D-4F79-AB9A-E76F484E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C995-0DA0-4D91-9300-6F955A62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2E68-078B-4578-A3EA-2E40C454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EE21-7BC3-464E-AF1D-719D2E60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9CBD-F750-4285-915E-ADA43D0A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E554-6FB2-4E5A-BAA1-69CB7360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234E4-A7A2-4CBA-A397-B38D01441A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