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31668"/>
        <c:axId val="8325869"/>
      </c:barChart>
      <c:catAx>
        <c:axId val="26831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869"/>
        <c:crosses val="autoZero"/>
        <c:auto val="1"/>
        <c:lblAlgn val="ctr"/>
        <c:lblOffset val="100"/>
        <c:noMultiLvlLbl val="0"/>
      </c:catAx>
      <c:valAx>
        <c:axId val="8325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31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262-96CB-40DE-BC82-919D6B0E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A03-0114-4F6D-A2B7-1FEB127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14D-7084-4328-89F1-EEDA66D6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E1E-8441-4D2D-AF53-158697C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A5B-24BD-4DBB-9C72-667E01C1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AB5-8C0C-460A-AFCB-3B42CAF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634-B2DD-44B7-A131-7D5C7F4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282-D300-447C-BD7E-FF4FE8F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94F-6315-4B6A-B7B5-4A6353A0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43A-FD47-44E6-A366-A1BECC6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B35-55EB-4916-B544-79AC509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D0A-073F-4339-B287-416A332C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A92D4-DFE2-4F16-B362-3881F0400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