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29283"/>
        <c:axId val="6002804"/>
      </c:barChart>
      <c:catAx>
        <c:axId val="657292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2804"/>
        <c:crosses val="autoZero"/>
        <c:auto val="1"/>
        <c:lblAlgn val="ctr"/>
        <c:lblOffset val="100"/>
        <c:noMultiLvlLbl val="0"/>
      </c:catAx>
      <c:valAx>
        <c:axId val="6002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292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BEE-CCFF-4A2B-8CE0-28AFC168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8CE6-CCD9-4A0D-A514-5305B285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EDA4-8AB9-478D-807F-E340BA13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971-AE6B-491D-B635-9D2FC474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8CB-9F8B-461A-A9CB-D67822C5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63C-F9E0-4AF5-A803-B0E56ABB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6EF-255E-46C8-A632-2E830029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971-C677-4E61-A785-09E591D7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7CE-0A54-4847-B6B9-E5B23789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A8A-806C-46AA-9178-4B2F02E6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8ABF-8278-4F6E-BED3-14FA5335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81C-9109-4EE8-9EEC-5631955B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132A8-F96F-4169-BDCA-89BCDB9CDA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