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95054"/>
        <c:axId val="28493377"/>
      </c:barChart>
      <c:catAx>
        <c:axId val="67950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93377"/>
        <c:crosses val="autoZero"/>
        <c:auto val="1"/>
        <c:lblAlgn val="ctr"/>
        <c:lblOffset val="100"/>
        <c:noMultiLvlLbl val="0"/>
      </c:catAx>
      <c:valAx>
        <c:axId val="284933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50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058A-59D1-4220-9677-D174375B8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B55C-EECB-4346-B43D-3F0BDE5C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0131-F516-4689-A6B3-C0923576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CBE8-4F8F-435B-AFD0-5E2C400EC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7EF2-8A47-4314-9A6C-B3A5E07D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1173-3EA4-44B8-90DD-2F846214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6D37-AB95-4865-BF73-B527B497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4E38-7966-41E6-8CEB-26F9B8EB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CC92-B28A-4D0A-8258-C05DF8E6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42BF-54A8-4AE8-9B4A-7D4C51ED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37E1-9B06-4ECE-8EEB-EA2E90F9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FE56-0B4D-4A03-BE4A-05500F0A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F24BA8-7D41-4EA4-AD3A-353C391797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