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80521"/>
        <c:axId val="70419914"/>
      </c:barChart>
      <c:catAx>
        <c:axId val="71180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19914"/>
        <c:crosses val="autoZero"/>
        <c:auto val="1"/>
        <c:lblAlgn val="ctr"/>
        <c:lblOffset val="100"/>
        <c:noMultiLvlLbl val="0"/>
      </c:catAx>
      <c:valAx>
        <c:axId val="70419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0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8FB-B3F4-4D0D-9369-AEA9B0DD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C34-14AB-4DC7-9AB0-6FF91DC3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015-2744-4A24-97A9-21F5DC5B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93B-8A6D-4203-8159-67E2FF1A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D1D-8E14-4DA8-AD74-CD73D038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228-B8B8-48CE-8953-7A7ED7EF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0F1-9AD0-4A58-8C81-D2DE2AD2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B42-7FB3-4D83-9F0C-5F32A84E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9D6-D550-4E0B-BB17-33442AD9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797-8ECD-49E0-BC5D-3691676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CEE-A65F-495E-AA7F-3388714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D70-F89F-486B-8DA2-17822F10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09FF5-E2AF-4447-9F56-3C559E5259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