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12423"/>
        <c:axId val="28850999"/>
      </c:barChart>
      <c:catAx>
        <c:axId val="99712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50999"/>
        <c:crosses val="autoZero"/>
        <c:auto val="1"/>
        <c:lblAlgn val="ctr"/>
        <c:lblOffset val="100"/>
        <c:noMultiLvlLbl val="0"/>
      </c:catAx>
      <c:valAx>
        <c:axId val="28850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12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5CA-42D8-4C90-8816-2E558A64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269-6FFD-4B20-BA0E-E48BAE30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EE3-91CC-478F-8284-68199A5F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B24-5CA6-435A-9896-BBB24A30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CED-5F86-40FF-9CAC-AAAF363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36D-A447-4776-AF1D-C6365EA7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732-AB74-45A0-8B64-887F190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7DE-C3BC-4E5F-9F45-434BECE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522-B557-43BD-9851-3EAB079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19B-E7C9-4C59-9C02-1B760BD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99D-5731-4C3A-8A72-5F86C39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2C1-A5C6-4EDD-B20F-EB702D8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CE3E8-A9C6-4939-B46E-5C48303F96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