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22374"/>
        <c:axId val="64424719"/>
      </c:barChart>
      <c:catAx>
        <c:axId val="12022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4719"/>
        <c:crosses val="autoZero"/>
        <c:auto val="1"/>
        <c:lblAlgn val="ctr"/>
        <c:lblOffset val="100"/>
        <c:noMultiLvlLbl val="0"/>
      </c:catAx>
      <c:valAx>
        <c:axId val="64424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22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0F9-06DF-497F-8464-245DAD24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639-A16F-4F94-89B7-B89CEE5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A26-CCEB-4ACE-8BCA-7EDF641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C22-7E2B-48F3-B60E-5DD8FCB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CF8-8F9C-4FE0-BEE7-CAB2CC4B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D50-12CB-4ADF-8647-BA47378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AC3-A1DE-4131-8FE9-0FDDDAB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A79-CF3F-4353-BB72-B923F845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FC4-2E7A-4278-A78F-729ABE92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E26-2068-4115-8F42-07F45C2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C6C-A30C-4235-BCBA-26796C9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BF7-4C09-4DEA-B1A8-3470F10E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9AD7F-0091-48F9-B240-931D490A8F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