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55296"/>
        <c:axId val="2263535"/>
      </c:barChart>
      <c:catAx>
        <c:axId val="88755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3535"/>
        <c:crosses val="autoZero"/>
        <c:auto val="1"/>
        <c:lblAlgn val="ctr"/>
        <c:lblOffset val="100"/>
        <c:noMultiLvlLbl val="0"/>
      </c:catAx>
      <c:valAx>
        <c:axId val="2263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55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40C-86D7-430F-B169-BD5E943B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C9A-9564-4BA6-8551-DC39D107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106-1751-46BC-A98A-B0B70C73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353-9CEE-426B-BD21-69A70FF5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63E-B72A-4665-8C63-93F701CD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7D7-83A0-4905-8ED5-FE3A31B2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48B-0F3B-4859-96BD-257A9B95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FD9-F06A-4DF2-9595-05C10C08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A43-7D18-4CBD-9CC3-D2D76B6F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446-987F-41D3-987F-DDB95994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EA6-FE03-4E89-B2F5-DFBCAC03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859-F695-4FC1-A3FA-A4FDD0F3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BBD99-4C69-4B36-9496-E7C0C1503C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