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83677"/>
        <c:axId val="73435817"/>
      </c:barChart>
      <c:catAx>
        <c:axId val="28983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35817"/>
        <c:crosses val="autoZero"/>
        <c:auto val="1"/>
        <c:lblAlgn val="ctr"/>
        <c:lblOffset val="100"/>
        <c:noMultiLvlLbl val="0"/>
      </c:catAx>
      <c:valAx>
        <c:axId val="73435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83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AD82-3796-413A-84CA-97AE4635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64DA-B302-478D-BC7E-7B8CAD9B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CE8A-4122-446F-AE3D-1D6BB21A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8B21-D4EE-4587-AB41-0CC95523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7C9D-0654-4E00-B8C7-0E043EB3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95D2-6D27-4348-A6A1-F107A1ED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E780-5F07-42BE-9AD8-5F957A66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238C-BEDC-42D7-8724-C10F14F1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267-DE8B-4E08-B39F-144CB809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5C8F-4C36-4D14-A427-F0A9DA72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C38E-F51A-476A-A069-A0AA23BC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9BD-71A2-4919-8B93-4BFB8391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BF30A-1BED-4F57-ABE7-EE133A192E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